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4A75-8BC0-4926-AF0E-D270D80C4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6A26-F9CE-4C7A-8ADD-BD01F7EE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97A3-A72F-4760-8356-2F2DD76C7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B90F-87E3-41D8-A87A-8287052CE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2709-BA0D-4EE6-8C5A-330926BE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EEEE-B74D-4E33-BE59-7349FE5C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E38A-EB41-468B-8E61-FF926822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8AD3-0529-48B4-AE5B-8957DFC1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206C-4B57-4B41-9324-307279C4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F8E3-EFB1-4F70-938B-340846F5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4903-D4F8-4C4B-B176-C9C70C64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D7F3-5E1A-48E0-BE21-103B5B91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2F10-595D-4431-8C8D-11F5864DF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t est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2697120" cy="3714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792680" y="1600200"/>
            <a:ext cx="3219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U est…(Mlle. Smith’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632448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tty White es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42840" y="1600200"/>
            <a:ext cx="306576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18160" y="1752480"/>
            <a:ext cx="3790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i Manning es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58680" y="1752480"/>
            <a:ext cx="3343320" cy="4648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870440" y="1639800"/>
            <a:ext cx="359424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r. Shuester es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3322800" cy="3816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809880" y="2465280"/>
            <a:ext cx="48769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wie es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14440" y="2786040"/>
            <a:ext cx="3490920" cy="3538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153040" y="1600200"/>
            <a:ext cx="3027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ck Cannon es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2867040" cy="4672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114800" y="2209680"/>
            <a:ext cx="434340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loh es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743200" y="1905120"/>
            <a:ext cx="338940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lle. Smith es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35607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ack Obama es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563868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21:23:58Z</dcterms:created>
  <dc:creator>asmith</dc:creator>
  <dc:description/>
  <dc:language>en-US</dc:language>
  <cp:lastModifiedBy>asmith</cp:lastModifiedBy>
  <dcterms:modified xsi:type="dcterms:W3CDTF">2010-10-27T21:42:21Z</dcterms:modified>
  <cp:revision>2</cp:revision>
  <dc:subject/>
  <dc:title>Slide 1</dc:title>
</cp:coreProperties>
</file>